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B2B-A094-4E28-9ACC-AF352035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5AC-7B05-4DD8-A684-7E04C50C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9CA-D419-4ACD-B0B0-EB9B068F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E21-E063-4C36-A9C0-9DD41095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8997-0489-47ED-9D05-D118CE35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930-BCC6-40EB-A04B-3D9CF77F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E77-C34A-41FC-B53F-789F6724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C94-1101-427E-8A47-1A349C99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5C9-5AA3-4BC1-848B-E0B8E3FB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A5C-AB37-4DE1-9DC2-B51B4A6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F6F-4480-4057-8FF5-F8979FC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CBB-C82E-4718-8917-EE8EBFA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1CAD-2F91-4BD7-A034-595399396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58128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حُنا بخورْ حنانُنا نبيذْ       إيمانُنا قربان لقاؤنا صلاةْ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    فرحُنا حنانُنا ايمانُنا لقاؤنا     قدّاسُنا محبَّة قداسنا محبَـ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86200" y="0"/>
            <a:ext cx="61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80880"/>
            <a:ext cx="2971800" cy="88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ما أجملَ أن يجتَمعَ الإخوة    تحتَ سقفٍ واحد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الأرضُ تهلِّلُ والسماءُ تُباركْ</a:t>
            </a:r>
            <a:r>
              <a:rPr b="1" lang="ar-SA" sz="4800" spc="-1" strike="noStrike">
                <a:solidFill>
                  <a:srgbClr val="ffcccc"/>
                </a:solidFill>
                <a:latin typeface="Times New Roman"/>
                <a:ea typeface="Times New Roman"/>
              </a:rPr>
              <a:t> ما أجملَ أن يجتمعَ  الأخــوة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27600" cy="7086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-257040"/>
            <a:ext cx="3047760" cy="13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هلِّلـي يا محبـّة رنـِّـم يـا رجـاءْ في لقاءِ الأحبَّة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لقاءِ الأحبَّ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في يومِ السماءْ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في يومِ السماءْ</a:t>
            </a:r>
            <a:r>
              <a:rPr b="1" lang="ar-SA" sz="4800" spc="-1" strike="noStrike">
                <a:solidFill>
                  <a:srgbClr val="ffffff"/>
                </a:solidFill>
                <a:latin typeface="Simplified Arabic"/>
              </a:rPr>
              <a:t> </a:t>
            </a:r>
            <a:r>
              <a:rPr b="1" lang="ar-SA" sz="4800" spc="-1" strike="noStrike">
                <a:solidFill>
                  <a:srgbClr val="ffffff"/>
                </a:solidFill>
                <a:latin typeface="Traditional Arabic"/>
              </a:rPr>
              <a:t>هلِّلــي، هلِّلــي   يا محبـَــ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5:17:53Z</dcterms:created>
  <dc:creator>SUZANNE.MD</dc:creator>
  <dc:description/>
  <dc:language>en-US</dc:language>
  <cp:lastModifiedBy>HANI SAFI</cp:lastModifiedBy>
  <dcterms:modified xsi:type="dcterms:W3CDTF">2003-05-19T05:46:18Z</dcterms:modified>
  <cp:revision>2</cp:revision>
  <dc:subject/>
  <dc:title>PowerPoint Presentation</dc:title>
</cp:coreProperties>
</file>